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430E-845F-4406-9174-C5CCF2E96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CA01-B9F6-4B84-A8F6-1AAEAFDA1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66191-D381-4E65-86C5-E62CE7F2A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28E6-7F08-4CD4-9D9B-4C8292D7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F399-7979-4071-BD54-F5AB583D8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C8E69-5778-4E50-9358-0A4320500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136F0-5D99-4C39-B935-4E31E2323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F64F4-3FF2-48BC-8F7C-4A189B16D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4BC04-5371-470B-9E09-F27C00CCD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42B2E-18D5-4407-A0C6-49560BC88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DD8E6-1B02-4E8A-9EC0-51581A707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D28E2-33C7-4DE5-972F-0D3016460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34A6D-8C97-416C-93C8-EAACBD860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F5C1-864E-492E-A87F-66526CA0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05986-F3AA-4FDD-8C7C-8D31DEB1E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30251-E155-494E-B9A6-FABA30EB6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0C33C-145B-4270-B8EB-B5A422A30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8F5E6-1145-43CD-A5E5-13ADEDD92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005BF-0BBB-4C8E-A3E6-628ABCFAF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0B2F-26C4-4D6D-A2B5-7168224B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59A44-E52B-42EA-9BF5-BA292D4EB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CA5C-AC5F-4FB8-B4D8-A4A4E1F8B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50EF-2A77-430C-868C-B4FB561B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731F-5A12-4059-BB83-741FA5BF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8C463-C495-46B2-BE74-222644DF5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14EB-4D58-4226-B81E-07F0656A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22CC-269B-4060-BB3D-58DEDF4FC4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E0B2-154A-4BF1-B1D7-1C90D27DB9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to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2T00:25:39Z</dcterms:modified>
  <cp:revision>41</cp:revision>
  <dc:subject/>
  <dc:title>acids and bases</dc:title>
</cp:coreProperties>
</file>